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6960" y="912960"/>
            <a:ext cx="4008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irst Age of Empires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57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–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0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4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large empires develop in Africa and Asia between 157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2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4800" y="2174760"/>
            <a:ext cx="5338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teraction of Egypt and Nu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ian culture influences Nubia and beyon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ern 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12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bia gains independence b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Egyptian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82000" y="1690560"/>
            <a:ext cx="464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 Kushites Conquer the Nile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3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74800" y="3724200"/>
            <a:ext cx="5338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ankhi Captures the Egyptian Th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75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ushite king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iank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qu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, ousts Liby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yrians overcome Kushites and take Eg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72640" y="159876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Golden Age of Mero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4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shites settl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ero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 join in trade with Afri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abia, I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73360" y="314496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ealth of K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ë becomes important center for ir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apons and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on products transported to Red Sea, exchang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uxury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73360" y="4694400"/>
            <a:ext cx="5394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cline of Mer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ë thrives from about 25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50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n dec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sum, 400 miles southeast, dominates Nor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port on Red Sea, defeats M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ë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3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0160" y="347976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yria develops a military machine and establishes a well-organized administ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370160" y="2397240"/>
            <a:ext cx="6010200" cy="1032840"/>
            <a:chOff x="1370160" y="2397240"/>
            <a:chExt cx="6010200" cy="1032840"/>
          </a:xfrm>
        </p:grpSpPr>
        <p:sp>
          <p:nvSpPr>
            <p:cNvPr id="158" name=""/>
            <p:cNvSpPr/>
            <p:nvPr/>
          </p:nvSpPr>
          <p:spPr>
            <a:xfrm>
              <a:off x="1370160" y="23972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0160" y="2787480"/>
              <a:ext cx="601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The Assyrian Empire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71200" y="182736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 Mighty Military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000" y="885960"/>
            <a:ext cx="396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The Assyrian Empi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73360" y="240336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y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ssy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s military might to acquire empire acr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west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78040" y="3359160"/>
            <a:ext cx="5851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ise of a Warrior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invasions in Mesopotamia, Assyrians devel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like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yrian king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nnacher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rutally destroys ene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79840" y="4629240"/>
            <a:ext cx="5936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itary Organization and Con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rified armies wear metal armor, copper helmet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ther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iron weapons, engineering skill, and brute fo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quer 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l, enslave, or banish captive peoples to distant 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75160" y="1598760"/>
            <a:ext cx="31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Empire Exp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gs of Assy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at Syria, Palestine, Babylonia between 85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65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3360" y="3195720"/>
            <a:ext cx="5419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yrian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central authority over local governor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t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s taxes and tribute from conquered 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73360" y="4478400"/>
            <a:ext cx="5813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yrian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s build great cities, including capital at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ineve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ved sculptures of military campaigns and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on h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shurbanip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ilds library of 20,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ts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ic of Gilgame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73360" y="1598760"/>
            <a:ext cx="61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birth of Babylon Under the Chald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W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spread thin, cruelty earns many enemi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hurbanipal 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73360" y="3195720"/>
            <a:ext cx="5419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ine and F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y of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ed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halde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tro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eveh (61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 library surv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9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73360" y="4160880"/>
            <a:ext cx="5419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birth of Babylon Under the Chald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deans make Babylon capital of own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ebuchadnezz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ilds legendary hang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dens of Baby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s tall ziggurats; astronomers mak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ies about sola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dean Empire falls to Persians; they adop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yrian in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370160" y="2486160"/>
            <a:ext cx="5517720" cy="1078200"/>
            <a:chOff x="1370160" y="2486160"/>
            <a:chExt cx="5517720" cy="1078200"/>
          </a:xfrm>
        </p:grpSpPr>
        <p:sp>
          <p:nvSpPr>
            <p:cNvPr id="196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0160" y="2784600"/>
              <a:ext cx="5517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The Persian Empire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370160" y="350028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overning with tolerance and wisdom, the Persians establish a well-ordered empire that lasts for 20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74440" y="182736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Rise of Per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68720" y="885960"/>
            <a:ext cx="373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The Persian Empi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73360" y="240336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rsian Home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a (ancient Iran) has fertile land and min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es and Persians rose to power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0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73360" y="3406680"/>
            <a:ext cx="57880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rus the Great Founds an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in 55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ersian king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y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qu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ing 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s with tolerance toward conquered peop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nors local customs, including religious 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Jews to return to Israel to rebuild templ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75160" y="159876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ersia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byses and Da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rus’s son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mby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quers Egypt b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unwis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ari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izes control, establishes stability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empire to I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3360" y="3754440"/>
            <a:ext cx="57751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nces and Satr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us divides empire into 20 areas of lo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oint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tra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governors—to rule each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oyal R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make communication with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eas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coins that can be used throughout the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75880" y="159876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Persian Leg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73360" y="2174760"/>
            <a:ext cx="5889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ro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an thinker calle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Zoroa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velops 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2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73360" y="3178080"/>
            <a:ext cx="5889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roaster’s Teac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is a battleground between good and e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god will judge us by how well we fight for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oastrianism influenced Judaism, Christianity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73360" y="4676760"/>
            <a:ext cx="5889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tic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tolerance and good government, Persi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political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 earlier cultures, find new ways to live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6960" y="912960"/>
            <a:ext cx="4008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irst Age of Empires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57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–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0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6240" y="2503440"/>
            <a:ext cx="5984640" cy="2026080"/>
            <a:chOff x="2046240" y="2503440"/>
            <a:chExt cx="5984640" cy="2026080"/>
          </a:xfrm>
        </p:grpSpPr>
        <p:sp>
          <p:nvSpPr>
            <p:cNvPr id="51" name="">
              <a:hlinkClick r:id="rId1" action="ppaction://hlinksldjump"/>
            </p:cNvPr>
            <p:cNvSpPr/>
            <p:nvPr/>
          </p:nvSpPr>
          <p:spPr>
            <a:xfrm>
              <a:off x="2046240" y="2511360"/>
              <a:ext cx="1741680" cy="38124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2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CTION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>
              <a:hlinkClick r:id="rId2" action="ppaction://hlinksldjump"/>
            </p:cNvPr>
            <p:cNvSpPr/>
            <p:nvPr/>
          </p:nvSpPr>
          <p:spPr>
            <a:xfrm>
              <a:off x="2046240" y="3073320"/>
              <a:ext cx="1741680" cy="38124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2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CTION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>
              <a:hlinkClick r:id="rId3" action="ppaction://hlinksldjump"/>
            </p:cNvPr>
            <p:cNvSpPr/>
            <p:nvPr/>
          </p:nvSpPr>
          <p:spPr>
            <a:xfrm>
              <a:off x="2046240" y="3606840"/>
              <a:ext cx="1741680" cy="3808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2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CTION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rId4" action="ppaction://hlinksldjump"/>
            </p:cNvPr>
            <p:cNvSpPr/>
            <p:nvPr/>
          </p:nvSpPr>
          <p:spPr>
            <a:xfrm>
              <a:off x="2046240" y="4140360"/>
              <a:ext cx="1741680" cy="3808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2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CTION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45160" y="2503440"/>
              <a:ext cx="41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Egyptians and Nubian Empi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46240" y="3079800"/>
              <a:ext cx="267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Assyrian Empi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47680" y="3591000"/>
              <a:ext cx="243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Persian Emp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47680" y="4130640"/>
              <a:ext cx="289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Unification of Ch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2043000" y="2502000"/>
            <a:ext cx="1741680" cy="38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2043000" y="3081240"/>
            <a:ext cx="1741680" cy="381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2043000" y="3614760"/>
            <a:ext cx="1741680" cy="38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8" action="ppaction://hlinksldjump"/>
          </p:cNvPr>
          <p:cNvSpPr/>
          <p:nvPr/>
        </p:nvSpPr>
        <p:spPr>
          <a:xfrm>
            <a:off x="2043000" y="4138560"/>
            <a:ext cx="1741680" cy="38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240" y="2486160"/>
            <a:ext cx="6753600" cy="1078200"/>
            <a:chOff x="1371240" y="2486160"/>
            <a:chExt cx="6753600" cy="1078200"/>
          </a:xfrm>
        </p:grpSpPr>
        <p:sp>
          <p:nvSpPr>
            <p:cNvPr id="235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71240" y="2784600"/>
              <a:ext cx="6753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The Unification of China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370160" y="350028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cial disorder of the warring states contributes to the development of three Chinese ethical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72280" y="182736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nfucius and the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71600" y="885960"/>
            <a:ext cx="456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The Unification of Ch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3360" y="240336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hou Dynas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ed 1027 to 25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ancient values decline ne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73360" y="3397320"/>
            <a:ext cx="571176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ucius Urges Harm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Zhou Dynasty is time of dis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lar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onfuci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s to restore ord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y, good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ses developing good relationships, inclu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filial p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respect for parent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e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es to reform society by promoting go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74800" y="2174760"/>
            <a:ext cx="54658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ucian Ideas About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s education can transform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s become foundation for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ureaucr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ined civil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ucianism is an ethical system of right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ong, not a reli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government and social order is based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uci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2000" y="1690560"/>
            <a:ext cx="397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onfucius and the Social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74080" y="1598760"/>
            <a:ext cx="34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ther Ethic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oists Seek Harm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ozi teaches that people should follow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order of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s that universal force called Dao gu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ao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ilosophy is to understand nature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free of des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oists influence sciences, alchemy, astronom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73360" y="478296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galists Urge Harsh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ega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hasizes the use of law to resto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; stifles critic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s that obedience should be reward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obedience pun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73360" y="2174760"/>
            <a:ext cx="58896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Ch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Yin and Y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I 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Book of Chan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ffers good advic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 of yin and yang—two powers repres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ythm of 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n: cold, dark, soft, mysterious; yang: warm, brigh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, 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in and ya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lain how people fit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80200" y="1690560"/>
            <a:ext cx="31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Other Ethical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73360" y="159876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Qin Dynasty Unifies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Qin Dynas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Qin Dynas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s Zhou Dynasty in thi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u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73360" y="3170160"/>
            <a:ext cx="5788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ew Emperor Take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eror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hi Huangd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ifies China, ends fightin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s new 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36 administrative districts controlled by Q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egalist prime minister, murders Confuci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lars, burns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an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utocr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government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mited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8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73360" y="2174760"/>
            <a:ext cx="5889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gram of Centr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 Huangdi builds highways, irrigation project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standards for writing, law, currency, weight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sh rule includes high taxes and repress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81640" y="1690560"/>
            <a:ext cx="38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 Qin Dynasty Unifies 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73360" y="4282920"/>
            <a:ext cx="5889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at Wall of 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eror forces peasants to build Great Wall to kee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inva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73360" y="5261040"/>
            <a:ext cx="5889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the Q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 Huangdi’s son loses the throne to rebel leade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 Dynasty be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9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370880" y="2486160"/>
            <a:ext cx="5103360" cy="1600560"/>
            <a:chOff x="1370880" y="2486160"/>
            <a:chExt cx="5103360" cy="1600560"/>
          </a:xfrm>
        </p:grpSpPr>
        <p:sp>
          <p:nvSpPr>
            <p:cNvPr id="66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70880" y="2895480"/>
              <a:ext cx="510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The Egyptian and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Nubian Empires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375920" y="413532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empires along the Nile, Egypt and Nub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e commercial, cultural, and political conn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74800" y="182736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omadic Invaders Rule Egy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70520" y="885960"/>
            <a:ext cx="636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The Egyptian and Nubian Empi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77680" y="2403360"/>
            <a:ext cx="5485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164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sian warriors, 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yks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iots to conquer Eg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78400" y="3397320"/>
            <a:ext cx="60282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brews Migrate to Eg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brews move to Egypt from Canaan around 165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ians resent the presence of Hebrews and Hyks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g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78760" y="4680000"/>
            <a:ext cx="5354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ulsion and Sla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ians drive out the hated Hyk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brews lose protection of Hyksos; are ensl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72640" y="159876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New Kingdom of Egy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cal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1570 to 107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araohs creat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King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powerful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y uses bronze weapons and chariot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 other 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73360" y="3728880"/>
            <a:ext cx="5419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tshepsut’s Prosperous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atsheps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pharaoh whose reign most no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er trade expeditions, not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81640" y="1690560"/>
            <a:ext cx="35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 New Kingdom of 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3360" y="2174760"/>
            <a:ext cx="59655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tmose the Empire Bui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hutmose I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atshepsut’s stepson, expands Egypt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des Palestine, Syria, an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ub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region aro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Nile 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 most powerful and wealthy during reign of 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dom pharao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4800" y="2174760"/>
            <a:ext cx="5338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gyptians and the Hitt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128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gyptians battle the Hitt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ales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’s pharaoh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amses 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he Hittite 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a peace trea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81640" y="1690560"/>
            <a:ext cx="35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 New Kingdom of 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74800" y="3724200"/>
            <a:ext cx="5338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ge of Bui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Kingdom pharaohs built great palac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ficent te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y of the Kings near Thebes is home to roy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ses II builds impressive temple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ormous statues of him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74800" y="159876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Empire Dec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sion by Land and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Peoples” (possibly Philistines) cause gre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uction in Eg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yan raids on villages and Palestine rebell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en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73360" y="371628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’s Empire F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ened empire breaks into smaller kingd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round 950 to 73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byan pharaoh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Egypt, erect 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73360" y="159876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Kushites Conquer the Nile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2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 and K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2000 to 1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gypt domin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dom of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Ku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Nu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73360" y="3182760"/>
            <a:ext cx="5419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ople of Nu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 south of Egypt near division of Blue Nil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N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le River is a great trade route for good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bians link Egypt and Mediterranean to Afric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ior through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1:53:30Z</dcterms:modified>
  <cp:revision>805</cp:revision>
  <dc:subject/>
  <dc:title>No Slide Title</dc:title>
</cp:coreProperties>
</file>